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7395-D75D-458E-9284-B6301C2BE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02876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CC7B-BEBC-4544-BF3E-D2ACFE790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09F3-FA8F-460F-A8A9-8A7A9876C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5C42-B334-482A-AF99-DDE8F7532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731D-787D-4231-A467-AB7F374F7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2DE4-318F-42E9-8311-560282586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8E18-CD4E-4710-88CB-D2AF0CC4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A9F2-2CB1-4C16-A13E-13192A240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304560"/>
            <a:ext cx="864216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4223-55D1-465B-B6EB-C0AA8EE92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BA14-39DE-49DE-AF93-C32592BCE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A649-D72B-4591-BBDD-8B62F50D0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D10-A09C-4C24-A26A-439652082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019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19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-360" y="-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0B9-2580-4187-A788-F97C95EB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286000"/>
            <a:ext cx="8134200" cy="17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réseaux informatiques et Inter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adresse IP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permet d’identifier de façon unique chaque ordinate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é à un réseau à un moment donn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e est constituée de quatre octets (nombre entre 0 et 25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192.168.180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le réseau local on peut choisir comme l'on veut les adresses IP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sses privé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=Internet Protocol = Protocole d'échange des données sur les réseaux actuels (voir suite du c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DD8C-9B29-44C7-B7D6-B9FD23C7F8D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100" idx="4"/>
            <a:endCxn id="105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06" name=""/>
          <p:cNvCxnSpPr>
            <a:stCxn id="99" idx="4"/>
            <a:endCxn id="105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07" name=""/>
          <p:cNvCxnSpPr>
            <a:stCxn id="101" idx="4"/>
            <a:endCxn id="105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27640" y="191628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852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797360"/>
            <a:ext cx="20894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068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58972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rque : c'est le même principe avec les freebox, neufbox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586B-0B8B-4665-8050-43C0BA202D3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le réseau internet les ordinateurs connectés ont une adresse IP attribuée par 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nisseur d'accès Inter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'est son adres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que fois que vous connectez sur internet par modem, le F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ous attribue une adresse 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te adres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dynam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rotocole qui gère cette méthode est le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host configuration protocol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s FAI proposent cependant une IP fix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474D-700A-4EBA-9BE3-D9B0DEFC9EA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6" idx="4"/>
            <a:endCxn id="131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32" name=""/>
          <p:cNvCxnSpPr>
            <a:stCxn id="125" idx="4"/>
            <a:endCxn id="131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33" name=""/>
          <p:cNvCxnSpPr>
            <a:stCxn id="127" idx="4"/>
            <a:endCxn id="131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27640" y="1844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852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797360"/>
            <a:ext cx="20894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2637000"/>
            <a:ext cx="2089080" cy="916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privée du routeur: 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5445000"/>
            <a:ext cx="1873080" cy="9169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publique du routeur : 81.185.144.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244C-3C8C-40EA-A4E3-DCCF170AE22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eut joindre un ordinateur connecté au réseau (local ou internet) en inscrivant son numéro IP dans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re d’adres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’un navigateu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rnet explorer, mozilla firef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3279600"/>
            <a:ext cx="7559640" cy="3578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690F-D459-4D23-A20B-75E8FBECB5C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1197000"/>
            <a:ext cx="8713800" cy="5299200"/>
            <a:chOff x="0" y="1197000"/>
            <a:chExt cx="8713800" cy="52992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8713800" cy="529920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153" name=""/>
            <p:cNvSpPr txBox="1"/>
            <p:nvPr/>
          </p:nvSpPr>
          <p:spPr>
            <a:xfrm>
              <a:off x="0" y="1197000"/>
              <a:ext cx="8713800" cy="529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211640" y="2205000"/>
            <a:ext cx="2155680" cy="690480"/>
          </a:xfrm>
          <a:prstGeom prst="borderCallout1">
            <a:avLst>
              <a:gd name="adj1" fmla="val 18750"/>
              <a:gd name="adj2" fmla="val -8333"/>
              <a:gd name="adj3" fmla="val -30805"/>
              <a:gd name="adj4" fmla="val -10324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e privée du routeur adsl wi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486400"/>
            <a:ext cx="24843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d'administration du rou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465F-E5EB-4C6A-8CC3-AEB8BFEDC7B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 il est plus facile d’utiliser une adresse du type :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www.u-bourgogne.f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telle adresse s’appelle une adress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niform Resource Locato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om de doma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constitué de tout ce qui précède les slash (/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ans l'URL www.u-bourgogne.fr/modci/cadres.ht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u-bourgogne.fr : nom de doma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ci : sous-dossier sur le serveur hébergeant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dres.htm : page web située dans le dossier mod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03AC-14DD-4AE7-ADAD-CB924789FC5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systè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 (Domain Name Syste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s’occupe de transcrire les adresses URL en adresses numériques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’agit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urs spécialis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communiquent en permanence entre eux via internet pour mettre à jour leurs tables de correspondance URL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e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uer à l'année un nom de doma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 un espace sur un serveur web pour avoir son propre si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ww.gillesbousquet.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D5E1-26C0-4AEA-96D5-DF466A075F7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Outils inclus dans Windows pour tester les fonctionnalités de réseaux : 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ipconfig et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ouvrir une invite de command DOS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(démarrer/exécuter puis taper command ou cm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taper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</a:rPr>
              <a:t>ipconfig  /all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our connaître la configuration réseau de l'ordinate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taper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</a:rPr>
              <a:t>ping www.google.fr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our tester la liaison avec le moteur de recherche google sans passer par un navigateur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D16C-D0F8-410C-A7B5-6642E214CB9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config /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2031840"/>
            <a:ext cx="7632720" cy="4826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1960" y="2133720"/>
            <a:ext cx="1832040" cy="1049040"/>
          </a:xfrm>
          <a:prstGeom prst="borderCallout1">
            <a:avLst>
              <a:gd name="adj1" fmla="val 18750"/>
              <a:gd name="adj2" fmla="val -8333"/>
              <a:gd name="adj3" fmla="val 266870"/>
              <a:gd name="adj4" fmla="val -57106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mac de la carte réseau = code unique attribué à chaque carte réseau vendue dans le m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24720" y="3284640"/>
            <a:ext cx="1619280" cy="431640"/>
          </a:xfrm>
          <a:prstGeom prst="borderCallout1">
            <a:avLst>
              <a:gd name="adj1" fmla="val 18750"/>
              <a:gd name="adj2" fmla="val -8333"/>
              <a:gd name="adj3" fmla="val 489703"/>
              <a:gd name="adj4" fmla="val -54115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IP du l'ordin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4160" y="6281640"/>
            <a:ext cx="1728720" cy="576360"/>
          </a:xfrm>
          <a:prstGeom prst="borderCallout1">
            <a:avLst>
              <a:gd name="adj1" fmla="val 18750"/>
              <a:gd name="adj2" fmla="val -8333"/>
              <a:gd name="adj3" fmla="val -82092"/>
              <a:gd name="adj4" fmla="val 202569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IP du routeur pour l'accès à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50200" y="5715000"/>
            <a:ext cx="1693800" cy="863640"/>
          </a:xfrm>
          <a:prstGeom prst="borderCallout1">
            <a:avLst>
              <a:gd name="adj1" fmla="val 18750"/>
              <a:gd name="adj2" fmla="val -8333"/>
              <a:gd name="adj3" fmla="val 55148"/>
              <a:gd name="adj4" fmla="val -28305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ss IP des serveurs DNS (principal et seconda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5B07-0E1D-4981-BC08-EB32BB092AA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Plan du c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sur les réseaux informatiques et l'internet :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de réseaux, transport des fichiers, 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usages actuel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tes web, moteurs de recherche, messagerie , téléchargement de fichiers, streaming, téléphonie IP, groupes de discussion et lettres de dif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4458-C07C-43FC-A324-1388A95A832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01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341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3856-E342-4CA9-8E52-E3C5F688E95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Intern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vec un I majuscul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ndial qui met en relation des réseaux locaux d’ordinateu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et = réseau des résea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vec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uscule) est un terme anglais utilisé pour désigner une interconnexion de réseaux informatiques.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 la suite du cours, pas de distinctio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 le plus connu d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’Internet: l'échange de pages web au format HTM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hypertext marku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lon le protocole HTT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hypertext transport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B416-B754-4B4E-9C81-DC40B7FD6DE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utres services d’Intern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le transfer protocol) : échange de fichiers entre deux ordinateu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6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:  serveur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6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load :  client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mple mail transfer protocol) : service d'envoi d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ost office protocol) : service de réception de m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ternet Message Access Protocol) : un autre mode d'échange de courrier électro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tocoles de transaction sécurisée, utilisés notamment pour le paiement sécuris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net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verture d'une session de travail sur un  ordinateur distant (unix) à partir d'un ordinateur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7213-BD65-4067-9564-56280C481F7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transport de l'information sur 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= fichier informatique = suite de 0 et de 1 traduisant un texte, un son, une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ichier est transporté sur le réseau selon le protocole TCP/IP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oupage des fichiers en petits fichiers di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quets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quet IP = segment du fichier initial et position dans le fichier + adresse IP de l'expéditeur + adresse IP du destinataire + codes de cont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AB07-AEC5-4B58-ADBA-D2AD02C0100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 : les paquets IP passent  par d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putr3"/>
          <p:cNvSpPr/>
          <p:nvPr/>
        </p:nvSpPr>
        <p:spPr>
          <a:xfrm>
            <a:off x="324000" y="342900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putr3"/>
          <p:cNvSpPr/>
          <p:nvPr/>
        </p:nvSpPr>
        <p:spPr>
          <a:xfrm>
            <a:off x="7885080" y="328464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erver"/>
          <p:cNvSpPr/>
          <p:nvPr/>
        </p:nvSpPr>
        <p:spPr>
          <a:xfrm>
            <a:off x="169236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erver"/>
          <p:cNvSpPr/>
          <p:nvPr/>
        </p:nvSpPr>
        <p:spPr>
          <a:xfrm>
            <a:off x="2771640" y="227664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erver"/>
          <p:cNvSpPr/>
          <p:nvPr/>
        </p:nvSpPr>
        <p:spPr>
          <a:xfrm>
            <a:off x="3348000" y="3645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erver"/>
          <p:cNvSpPr/>
          <p:nvPr/>
        </p:nvSpPr>
        <p:spPr>
          <a:xfrm>
            <a:off x="536400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erver"/>
          <p:cNvSpPr/>
          <p:nvPr/>
        </p:nvSpPr>
        <p:spPr>
          <a:xfrm>
            <a:off x="4859280" y="191628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erver"/>
          <p:cNvSpPr/>
          <p:nvPr/>
        </p:nvSpPr>
        <p:spPr>
          <a:xfrm>
            <a:off x="2987640" y="515772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erver"/>
          <p:cNvSpPr/>
          <p:nvPr/>
        </p:nvSpPr>
        <p:spPr>
          <a:xfrm>
            <a:off x="5148360" y="544500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erver"/>
          <p:cNvSpPr/>
          <p:nvPr/>
        </p:nvSpPr>
        <p:spPr>
          <a:xfrm>
            <a:off x="6516720" y="414972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0" idx="4"/>
            <a:endCxn id="182" idx="8"/>
          </p:cNvCxnSpPr>
          <p:nvPr/>
        </p:nvCxnSpPr>
        <p:spPr>
          <a:xfrm>
            <a:off x="867960" y="3644640"/>
            <a:ext cx="824760" cy="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1" name=""/>
          <p:cNvCxnSpPr>
            <a:stCxn id="182" idx="9"/>
            <a:endCxn id="183" idx="8"/>
          </p:cNvCxnSpPr>
          <p:nvPr/>
        </p:nvCxnSpPr>
        <p:spPr>
          <a:xfrm flipV="1">
            <a:off x="2052360" y="2491920"/>
            <a:ext cx="719640" cy="1153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2" name=""/>
          <p:cNvCxnSpPr>
            <a:stCxn id="183" idx="9"/>
            <a:endCxn id="186" idx="8"/>
          </p:cNvCxnSpPr>
          <p:nvPr/>
        </p:nvCxnSpPr>
        <p:spPr>
          <a:xfrm flipV="1">
            <a:off x="3132000" y="2131200"/>
            <a:ext cx="1728000" cy="36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3" name=""/>
          <p:cNvCxnSpPr>
            <a:stCxn id="183" idx="10"/>
            <a:endCxn id="184" idx="8"/>
          </p:cNvCxnSpPr>
          <p:nvPr/>
        </p:nvCxnSpPr>
        <p:spPr>
          <a:xfrm>
            <a:off x="3132000" y="2491920"/>
            <a:ext cx="216720" cy="13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"/>
          <p:cNvCxnSpPr>
            <a:stCxn id="182" idx="10"/>
            <a:endCxn id="184" idx="9"/>
          </p:cNvCxnSpPr>
          <p:nvPr/>
        </p:nvCxnSpPr>
        <p:spPr>
          <a:xfrm>
            <a:off x="2052720" y="3644640"/>
            <a:ext cx="129600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"/>
          <p:cNvCxnSpPr>
            <a:stCxn id="182" idx="11"/>
            <a:endCxn id="187" idx="8"/>
          </p:cNvCxnSpPr>
          <p:nvPr/>
        </p:nvCxnSpPr>
        <p:spPr>
          <a:xfrm>
            <a:off x="2052360" y="3645000"/>
            <a:ext cx="93564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"/>
          <p:cNvCxnSpPr>
            <a:stCxn id="186" idx="9"/>
            <a:endCxn id="185" idx="8"/>
          </p:cNvCxnSpPr>
          <p:nvPr/>
        </p:nvCxnSpPr>
        <p:spPr>
          <a:xfrm>
            <a:off x="5219640" y="2131560"/>
            <a:ext cx="326160" cy="12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"/>
          <p:cNvCxnSpPr>
            <a:stCxn id="184" idx="10"/>
            <a:endCxn id="185" idx="9"/>
          </p:cNvCxnSpPr>
          <p:nvPr/>
        </p:nvCxnSpPr>
        <p:spPr>
          <a:xfrm flipV="1">
            <a:off x="3708000" y="3644280"/>
            <a:ext cx="165636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"/>
          <p:cNvCxnSpPr>
            <a:stCxn id="187" idx="9"/>
            <a:endCxn id="188" idx="8"/>
          </p:cNvCxnSpPr>
          <p:nvPr/>
        </p:nvCxnSpPr>
        <p:spPr>
          <a:xfrm>
            <a:off x="3347640" y="5373720"/>
            <a:ext cx="180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"/>
          <p:cNvCxnSpPr>
            <a:stCxn id="187" idx="10"/>
            <a:endCxn id="184" idx="11"/>
          </p:cNvCxnSpPr>
          <p:nvPr/>
        </p:nvCxnSpPr>
        <p:spPr>
          <a:xfrm flipV="1">
            <a:off x="3168360" y="4075920"/>
            <a:ext cx="36108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"/>
          <p:cNvCxnSpPr>
            <a:stCxn id="185" idx="10"/>
            <a:endCxn id="189" idx="8"/>
          </p:cNvCxnSpPr>
          <p:nvPr/>
        </p:nvCxnSpPr>
        <p:spPr>
          <a:xfrm>
            <a:off x="5724000" y="3645000"/>
            <a:ext cx="793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"/>
          <p:cNvCxnSpPr>
            <a:stCxn id="189" idx="9"/>
            <a:endCxn id="181" idx="4"/>
          </p:cNvCxnSpPr>
          <p:nvPr/>
        </p:nvCxnSpPr>
        <p:spPr>
          <a:xfrm flipV="1">
            <a:off x="6877080" y="3499920"/>
            <a:ext cx="1008720" cy="86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"/>
          <p:cNvCxnSpPr>
            <a:stCxn id="186" idx="10"/>
            <a:endCxn id="181" idx="5"/>
          </p:cNvCxnSpPr>
          <p:nvPr/>
        </p:nvCxnSpPr>
        <p:spPr>
          <a:xfrm>
            <a:off x="5219640" y="2131560"/>
            <a:ext cx="2666160" cy="1369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03" name=""/>
          <p:cNvCxnSpPr>
            <a:stCxn id="188" idx="9"/>
            <a:endCxn id="189" idx="10"/>
          </p:cNvCxnSpPr>
          <p:nvPr/>
        </p:nvCxnSpPr>
        <p:spPr>
          <a:xfrm flipV="1">
            <a:off x="5508720" y="4365360"/>
            <a:ext cx="100872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"/>
          <p:cNvCxnSpPr>
            <a:stCxn id="187" idx="11"/>
            <a:endCxn id="185" idx="11"/>
          </p:cNvCxnSpPr>
          <p:nvPr/>
        </p:nvCxnSpPr>
        <p:spPr>
          <a:xfrm flipV="1">
            <a:off x="3348000" y="3644640"/>
            <a:ext cx="201672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"/>
          <p:cNvSpPr/>
          <p:nvPr/>
        </p:nvSpPr>
        <p:spPr>
          <a:xfrm>
            <a:off x="250920" y="4149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metteur (ex. serveur we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4720" y="400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aire (ex. votre ordinat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eau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2133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191628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989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5760" y="2205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6165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que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988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343044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263700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96000" y="1844640"/>
            <a:ext cx="1512720" cy="1440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6662-1116-4366-9B5A-A7C8771304A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putr3"/>
          <p:cNvSpPr/>
          <p:nvPr/>
        </p:nvSpPr>
        <p:spPr>
          <a:xfrm>
            <a:off x="324000" y="342900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putr3"/>
          <p:cNvSpPr/>
          <p:nvPr/>
        </p:nvSpPr>
        <p:spPr>
          <a:xfrm>
            <a:off x="7885080" y="328464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erver"/>
          <p:cNvSpPr/>
          <p:nvPr/>
        </p:nvSpPr>
        <p:spPr>
          <a:xfrm>
            <a:off x="169236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erver"/>
          <p:cNvSpPr/>
          <p:nvPr/>
        </p:nvSpPr>
        <p:spPr>
          <a:xfrm>
            <a:off x="2771640" y="227664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erver"/>
          <p:cNvSpPr/>
          <p:nvPr/>
        </p:nvSpPr>
        <p:spPr>
          <a:xfrm>
            <a:off x="3348000" y="3645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erver"/>
          <p:cNvSpPr/>
          <p:nvPr/>
        </p:nvSpPr>
        <p:spPr>
          <a:xfrm>
            <a:off x="536400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erver"/>
          <p:cNvSpPr/>
          <p:nvPr/>
        </p:nvSpPr>
        <p:spPr>
          <a:xfrm>
            <a:off x="4859280" y="191628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erver"/>
          <p:cNvSpPr/>
          <p:nvPr/>
        </p:nvSpPr>
        <p:spPr>
          <a:xfrm>
            <a:off x="2987640" y="515772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erver"/>
          <p:cNvSpPr/>
          <p:nvPr/>
        </p:nvSpPr>
        <p:spPr>
          <a:xfrm>
            <a:off x="5148360" y="544500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erver"/>
          <p:cNvSpPr/>
          <p:nvPr/>
        </p:nvSpPr>
        <p:spPr>
          <a:xfrm>
            <a:off x="6516720" y="414972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19" idx="4"/>
            <a:endCxn id="221" idx="8"/>
          </p:cNvCxnSpPr>
          <p:nvPr/>
        </p:nvCxnSpPr>
        <p:spPr>
          <a:xfrm>
            <a:off x="867960" y="3644640"/>
            <a:ext cx="824760" cy="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0" name=""/>
          <p:cNvCxnSpPr>
            <a:stCxn id="221" idx="9"/>
            <a:endCxn id="222" idx="8"/>
          </p:cNvCxnSpPr>
          <p:nvPr/>
        </p:nvCxnSpPr>
        <p:spPr>
          <a:xfrm flipV="1">
            <a:off x="2052360" y="2491920"/>
            <a:ext cx="719640" cy="115344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31" name=""/>
          <p:cNvCxnSpPr>
            <a:stCxn id="222" idx="9"/>
            <a:endCxn id="225" idx="8"/>
          </p:cNvCxnSpPr>
          <p:nvPr/>
        </p:nvCxnSpPr>
        <p:spPr>
          <a:xfrm flipV="1">
            <a:off x="3132000" y="2131200"/>
            <a:ext cx="1728000" cy="36108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32" name=""/>
          <p:cNvCxnSpPr>
            <a:stCxn id="222" idx="10"/>
            <a:endCxn id="223" idx="8"/>
          </p:cNvCxnSpPr>
          <p:nvPr/>
        </p:nvCxnSpPr>
        <p:spPr>
          <a:xfrm>
            <a:off x="3132000" y="2491920"/>
            <a:ext cx="216720" cy="1369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3" name=""/>
          <p:cNvCxnSpPr>
            <a:stCxn id="221" idx="10"/>
            <a:endCxn id="223" idx="9"/>
          </p:cNvCxnSpPr>
          <p:nvPr/>
        </p:nvCxnSpPr>
        <p:spPr>
          <a:xfrm>
            <a:off x="2052720" y="3644640"/>
            <a:ext cx="129600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"/>
          <p:cNvCxnSpPr>
            <a:stCxn id="221" idx="11"/>
            <a:endCxn id="226" idx="8"/>
          </p:cNvCxnSpPr>
          <p:nvPr/>
        </p:nvCxnSpPr>
        <p:spPr>
          <a:xfrm>
            <a:off x="2052360" y="3645000"/>
            <a:ext cx="93564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"/>
          <p:cNvCxnSpPr>
            <a:stCxn id="225" idx="9"/>
            <a:endCxn id="224" idx="8"/>
          </p:cNvCxnSpPr>
          <p:nvPr/>
        </p:nvCxnSpPr>
        <p:spPr>
          <a:xfrm>
            <a:off x="5219640" y="2131560"/>
            <a:ext cx="326160" cy="12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"/>
          <p:cNvCxnSpPr>
            <a:stCxn id="223" idx="10"/>
            <a:endCxn id="224" idx="9"/>
          </p:cNvCxnSpPr>
          <p:nvPr/>
        </p:nvCxnSpPr>
        <p:spPr>
          <a:xfrm flipV="1">
            <a:off x="3708000" y="3644280"/>
            <a:ext cx="1656360" cy="2163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7" name=""/>
          <p:cNvCxnSpPr>
            <a:stCxn id="226" idx="9"/>
            <a:endCxn id="227" idx="8"/>
          </p:cNvCxnSpPr>
          <p:nvPr/>
        </p:nvCxnSpPr>
        <p:spPr>
          <a:xfrm>
            <a:off x="3347640" y="5373720"/>
            <a:ext cx="180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"/>
          <p:cNvCxnSpPr>
            <a:stCxn id="226" idx="10"/>
            <a:endCxn id="223" idx="11"/>
          </p:cNvCxnSpPr>
          <p:nvPr/>
        </p:nvCxnSpPr>
        <p:spPr>
          <a:xfrm flipV="1">
            <a:off x="3168360" y="4075920"/>
            <a:ext cx="36108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"/>
          <p:cNvCxnSpPr>
            <a:stCxn id="224" idx="10"/>
            <a:endCxn id="228" idx="8"/>
          </p:cNvCxnSpPr>
          <p:nvPr/>
        </p:nvCxnSpPr>
        <p:spPr>
          <a:xfrm>
            <a:off x="5724000" y="3645000"/>
            <a:ext cx="793080" cy="721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40" name=""/>
          <p:cNvCxnSpPr>
            <a:stCxn id="228" idx="9"/>
            <a:endCxn id="220" idx="4"/>
          </p:cNvCxnSpPr>
          <p:nvPr/>
        </p:nvCxnSpPr>
        <p:spPr>
          <a:xfrm flipV="1">
            <a:off x="6877080" y="3499920"/>
            <a:ext cx="1008720" cy="8661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41" name=""/>
          <p:cNvCxnSpPr>
            <a:stCxn id="225" idx="10"/>
            <a:endCxn id="220" idx="5"/>
          </p:cNvCxnSpPr>
          <p:nvPr/>
        </p:nvCxnSpPr>
        <p:spPr>
          <a:xfrm>
            <a:off x="5219640" y="2131560"/>
            <a:ext cx="2666160" cy="136908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42" name=""/>
          <p:cNvCxnSpPr>
            <a:stCxn id="227" idx="9"/>
            <a:endCxn id="228" idx="10"/>
          </p:cNvCxnSpPr>
          <p:nvPr/>
        </p:nvCxnSpPr>
        <p:spPr>
          <a:xfrm flipV="1">
            <a:off x="5508720" y="4365360"/>
            <a:ext cx="100872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"/>
          <p:cNvCxnSpPr>
            <a:stCxn id="226" idx="11"/>
            <a:endCxn id="224" idx="11"/>
          </p:cNvCxnSpPr>
          <p:nvPr/>
        </p:nvCxnSpPr>
        <p:spPr>
          <a:xfrm flipV="1">
            <a:off x="3348000" y="3644640"/>
            <a:ext cx="201672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"/>
          <p:cNvSpPr/>
          <p:nvPr/>
        </p:nvSpPr>
        <p:spPr>
          <a:xfrm>
            <a:off x="250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met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eau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299736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3429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73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3789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6165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que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29988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343044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3789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brement : le routeur choisit un autre che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2133720"/>
            <a:ext cx="504720" cy="431640"/>
          </a:xfrm>
          <a:prstGeom prst="noSmoking">
            <a:avLst>
              <a:gd name="adj" fmla="val 125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F87C-5A3E-49DB-82E0-D56B243AB65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"traceur de route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ci Visual Rou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chemin des paquets 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ci www.clari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568944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0BB1-FF18-4D9F-8276-7370930B0AF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284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84720" y="836640"/>
            <a:ext cx="2233800" cy="576360"/>
          </a:xfrm>
          <a:prstGeom prst="borderCallout1">
            <a:avLst>
              <a:gd name="adj1" fmla="val 18750"/>
              <a:gd name="adj2" fmla="val -8333"/>
              <a:gd name="adj3" fmla="val 491185"/>
              <a:gd name="adj4" fmla="val -131342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resses IP des rou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E35F-22E0-4D33-8A4B-A8715194A49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ébit de transmission : nombre de bits ou d'octets transportés par seco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fichier informatique est une suite de 1 et de 0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suite de huit bits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aille d'un fichier se mesure en octets, Kilooctets (Ko) , Megaoctets (Mo), Gigagoctets (G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427-CBF0-43A2-8367-CD6D22C7087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voi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Kilooctet = 1024 octets (1 K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Megaoctet = 1024 Ko (1 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Gigaoctet = 1024 Mo   (1 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on arrondit 1024 à 1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écrit "mo" (ko,go) au lieu de "Mo" (Ko,Go). Ex : 1 go= 1 milliards d'oct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31EC-B44E-43C1-BB1B-5F22D8BFBAD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Plan du c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548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techniques de création de sites web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: langage html, scripts client (javascript), scripts serveur (sql), feuilles de style, animations flash, CMS, ergonomie des sites ("usability").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se protéger sur l'internet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rus et troyens, spam, adware, cookies, pare-feu, confidentialité, cryptage, authentification et sig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roit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et l'interne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7D79-FDE1-4C68-BD3A-95F0F347870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vo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photo nu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ompressée : quelques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e : &lt; 1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tex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ans imag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’une centaine de p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1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chans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ompressée : 40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e : 2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fil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que non compressé : 4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 : 700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0492-5B64-4536-BF89-E93D9C77BFF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débit dépen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type connexion de l'ordinateur au réseau : modem classique (56 Kbps) , modem adsl (jusqu'à 20 Mbps), câble (idem), satellite (512 Kbp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réseau internet local et mondial (dans certains pays : débit inférieur à l'adsl en fr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adsl à 4 Mbps. temps de téléchargement d'un fichier de 60 M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F90E-D430-4B68-84EF-9D8EF8E07CA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pon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Mbps = 4 Mbits par sec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en oct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bits = 1 oc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Mbits=   Mo = 0,5 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r un fichier de 60 Mo,  il faut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60:0,5=120 secondes soi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que : en anglais octet=Byte 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Mb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Bps=1 Mo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71640" y="335772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0A0D-5E98-4F36-9AB3-1B7B63A5A77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em ADS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em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odulateur-démodulateu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s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symmetric Digital Subscriber L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 1 et 0 sont transformés en deux fréquences distinctes pour transiter par le fil de cuivre téléphonique jusqu'au central. Ces fréquences sont supérieures aux fréquences vocal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oix et internet sont transmis simultané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ébit descendant (downloa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: serveu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e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 : 8 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ébit montant (uploa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: modem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rveu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u moins 4 fois moins en général que le débit descend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écessite un central téléphonique adapté et proche (&lt;5 k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2EF0-1655-4991-BC3B-4EFCC8487F7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505240" cy="4672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95280" y="1052640"/>
            <a:ext cx="547200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mière transmission optique : le télégraphe d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happ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 179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ncipe : tours placées sur des collines avec sémaphores actionnés manuel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eau : En 1844, le réseau Chappe est composée de 534 stations, et près de 5 000 km de lignes. 29 villes sont reliées à Paris. (wikip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tations distantes de 9 à 12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itesse de transmission: 700 km en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A3DD-F605-4D29-BE7C-1B016BA3B7C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345200" cy="4776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580000" y="306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2565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es Chappe (extra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484F-19DC-4C5D-B6A3-91E9014E6BE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98508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0C7E-2C23-4442-A893-6E98765AB3C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0920" y="1841400"/>
            <a:ext cx="7705800" cy="4711680"/>
            <a:chOff x="250920" y="1841400"/>
            <a:chExt cx="7705800" cy="471168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50920" y="1841400"/>
              <a:ext cx="77058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 txBox="1"/>
            <p:nvPr/>
          </p:nvSpPr>
          <p:spPr>
            <a:xfrm>
              <a:off x="250920" y="1841400"/>
              <a:ext cx="7705800" cy="471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708360" y="1197000"/>
            <a:ext cx="3095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is proches de dij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1700280"/>
            <a:ext cx="215640" cy="25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0876-F77D-4383-B9F0-69AFCE51291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ransmission éléctrique de l’information commence avec le télégraphe (Charles Wheatstone, 183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Morse (Samuel Morse) :  alternance de signaux éléctriques longs et brefs pour coder et transmettre caractères et m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4 : Principe du Téléphone découvert par Charles Bourse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711E-81F5-4531-8B2E-F7EB17A838D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rigines d'intern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ikipedia et http://www.9atech.com/page_fete1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http://histoire.info.online.fr/ne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62, en pleine guerre froide, l'US Air Force a demande à un petit groupe de chercheurs de créer un réseau de communication qui puiss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ésister à une attaque nucléair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concept de ce réseau reposait sur un systèm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écentralisé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jamais une ou plusieurs machines sont détruites, le réseau continuent à fonctio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ul Bara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l'acteur principal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wikip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Paul_Baran"/>
          <p:cNvPicPr/>
          <p:nvPr/>
        </p:nvPicPr>
        <p:blipFill>
          <a:blip r:embed="rId1"/>
          <a:stretch/>
        </p:blipFill>
        <p:spPr>
          <a:xfrm>
            <a:off x="7164360" y="4869000"/>
            <a:ext cx="1473120" cy="17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27E0-E1B0-40BB-80C5-79E352E2E381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51640" y="457992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seau informatique : ordinateurs connectés entre eux pour échanger des donné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lo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hernet avec serv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 local area network (L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putr3"/>
          <p:cNvSpPr/>
          <p:nvPr/>
        </p:nvSpPr>
        <p:spPr>
          <a:xfrm>
            <a:off x="2771640" y="3429000"/>
            <a:ext cx="100836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erver"/>
          <p:cNvSpPr/>
          <p:nvPr/>
        </p:nvSpPr>
        <p:spPr>
          <a:xfrm>
            <a:off x="7524720" y="4076640"/>
            <a:ext cx="122400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720" y="522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putr3"/>
          <p:cNvSpPr/>
          <p:nvPr/>
        </p:nvSpPr>
        <p:spPr>
          <a:xfrm>
            <a:off x="5364000" y="3357720"/>
            <a:ext cx="100836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putr3"/>
          <p:cNvSpPr/>
          <p:nvPr/>
        </p:nvSpPr>
        <p:spPr>
          <a:xfrm>
            <a:off x="2843280" y="5516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putr3"/>
          <p:cNvSpPr/>
          <p:nvPr/>
        </p:nvSpPr>
        <p:spPr>
          <a:xfrm>
            <a:off x="1476360" y="4581360"/>
            <a:ext cx="1008000" cy="648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>
            <a:off x="3924000" y="5895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5" idx="4"/>
            <a:endCxn id="48" idx="1"/>
          </p:cNvCxnSpPr>
          <p:nvPr/>
        </p:nvCxnSpPr>
        <p:spPr>
          <a:xfrm flipV="1">
            <a:off x="3688920" y="5155920"/>
            <a:ext cx="1963080" cy="684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4" idx="4"/>
            <a:endCxn id="48" idx="1"/>
          </p:cNvCxnSpPr>
          <p:nvPr/>
        </p:nvCxnSpPr>
        <p:spPr>
          <a:xfrm flipH="1">
            <a:off x="5651280" y="4005000"/>
            <a:ext cx="2181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1" idx="4"/>
            <a:endCxn id="48" idx="1"/>
          </p:cNvCxnSpPr>
          <p:nvPr/>
        </p:nvCxnSpPr>
        <p:spPr>
          <a:xfrm>
            <a:off x="3276360" y="4076280"/>
            <a:ext cx="237528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4"/>
            <a:endCxn id="48" idx="1"/>
          </p:cNvCxnSpPr>
          <p:nvPr/>
        </p:nvCxnSpPr>
        <p:spPr>
          <a:xfrm>
            <a:off x="2322360" y="4905000"/>
            <a:ext cx="3330000" cy="251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61128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602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0" idx="2"/>
          </p:cNvCxnSpPr>
          <p:nvPr/>
        </p:nvCxnSpPr>
        <p:spPr>
          <a:xfrm>
            <a:off x="4572000" y="6552720"/>
            <a:ext cx="2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48" idx="3"/>
            <a:endCxn id="52" idx="8"/>
          </p:cNvCxnSpPr>
          <p:nvPr/>
        </p:nvCxnSpPr>
        <p:spPr>
          <a:xfrm flipV="1">
            <a:off x="6804000" y="4688640"/>
            <a:ext cx="721440" cy="467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558000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(ou h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DECB-6615-43B8-90FF-F7F138AF557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6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’agence ARPA du ministère de la défense américain développe un premier réseau à commutation de paquets (type paquets IP) en s’inspirant des travaux de Paul Ba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réseau ARPANET relie quatre instituts universitaires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Université de Stanford, l'université de Californie à Los Angeles, l'université de Californie à Santa Barbara et l'université d'Ut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4414-3F76-479E-8564-6569A9F2184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mise au point d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rier électro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t introduction de l'arobase @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naissance du protoco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11 ordinateurs connectés à ARP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réseau USENET (Unix User Network) : groupes de discu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611B-E333-4869-A254-C0112ED2193A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premier virus sur le réseau améric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a partie militaire de l’ARPANET se sépare du réseau princip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ébut du réseau scientifique et public (mais toujours pas de sites we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environ 5000 machines connectées su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3E52-3CA9-4D89-BEE3-5CCB99AAFC38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u web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 Berners-L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ysicien au CERN (Genêve) développe le WWW=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= protocole HTTP pour le transport des pag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 transport protoc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+ langage HTM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ur la mise en forme des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succès de Mosaic, navigateur web ancêtre d'internet explor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7146-DC34-4A89-99E2-C2F6419C0064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300 000 ordinateurs connect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 world wide web représente 1% seulement du trafic d'Internet (600 sites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ste est composé des accès à distance (telnet), du courrier électronique et des transferts de fichier (ft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le world wide web compte 10.000 serveurs (dont 20% à usage commercial) et 10 millions d'utilis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création du  "World-Wide Web Consortium" (W3C) qui régule mondialement l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969-F618-490D-9A7E-853046783DA0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jhemans.powerup.com.au/Internet_Statistics/internet_usage_statistic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912000" cy="501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412A-F24B-4985-B6EA-A8514AE0A49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lib.org/dlib/april03/lavoie/04lavo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8160" cy="44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B371-9113-4134-A58E-5CF6E114E13D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lib.org/dlib/april03/lavoie/04lavo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869160" cy="470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FA7D-C6EB-480B-AC5F-43B45DD9A3D0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4397-F51A-4E3C-9826-4BE4B1922FD8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500364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EB96-0D07-4AAF-B954-FD4F648E29CA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ériel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ur = logiciel serve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ndows 2003 serveu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 réseau+ disque dur de sauvegar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inateurs clients :  logiciel cli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cence payante en plus de windows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arte rése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ble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âble téléphone, prises différentes) 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îtiers d'interconnexion : hub,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native 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seau sans fil ou WIF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Fidel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69D5-FF97-4C56-B211-79985EFFF26C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488000" cy="50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A000-BADF-4BA8-8722-FF2BDF06A2FB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1601640"/>
            <a:ext cx="8642520" cy="5256360"/>
            <a:chOff x="0" y="1601640"/>
            <a:chExt cx="8642520" cy="525636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0" y="1601640"/>
              <a:ext cx="86425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 txBox="1"/>
            <p:nvPr/>
          </p:nvSpPr>
          <p:spPr>
            <a:xfrm>
              <a:off x="0" y="1601640"/>
              <a:ext cx="864252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16000" y="1197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urnaldune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0640-9ACB-4D20-BCE8-16E04A212394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1197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urnaldune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247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AC6F-7269-4952-9F68-14C6C33DEB55}" type="slidenum">
              <a:t>52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utilisateurs et mots de passe sur le serveur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ent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écessaire à la connexion pour les cl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oits spécifiq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ur chaque utilisateur ou groupe d'utilisateurs : accès limités à certains dossiers  du serveur, restriction particulière dans l'usage des logici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èle client/serve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e client demande un service au serveur, le serveur fournit le service : impression, logiciel, fichier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56F8-F44D-4357-B6E5-AD727EAE4D7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x variantes (éventuellement combiné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ordinateur client = simple 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logiciel installé sur le clien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installé et exécuté sur le disque dur du serv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80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é de maintenance : pas de logiciel à installer sur chaque p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80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écurité : l'ordinateur client n'a pas forcément de lecteur de cd-rom, ni de disque d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vénient : nécessite un serveur puis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ordinateur client = ordinateur class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s installés et exécutés sur les poste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ôle du serveur limité à l'authentification, au partage des dossiers, à l'i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B0A1-4160-4B6E-BF56-ED1909CC2E1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domestiqu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peer-to-pe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'égal à ég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u poste à poste: chaque machine est à la fois client et serve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que poste décide des fichiers ou services (imprimantes, connexion Internet) qu'elle partage avec les autres : pas d'administration cent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'achat de logiciel serveur (fonctionnalité incluse dans windows ou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ériel : câble ou borne wif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7BBE-16BC-4B1C-9DAA-FBBF96F9B53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domestique WIFI avec connexio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8" idx="4"/>
            <a:endCxn id="83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84" name=""/>
          <p:cNvCxnSpPr>
            <a:stCxn id="77" idx="4"/>
            <a:endCxn id="83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85" name=""/>
          <p:cNvCxnSpPr>
            <a:stCxn id="79" idx="4"/>
            <a:endCxn id="83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72360" y="57340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xion Internet par câble télé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BF67-4CD5-4DAC-878A-FDC409D6DB4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07:01:12Z</dcterms:created>
  <dc:creator>bousquet</dc:creator>
  <dc:description/>
  <dc:language>en-US</dc:language>
  <cp:lastModifiedBy>bousquet</cp:lastModifiedBy>
  <dcterms:modified xsi:type="dcterms:W3CDTF">2006-03-01T07:58:55Z</dcterms:modified>
  <cp:revision>108</cp:revision>
  <dc:subject/>
  <dc:title>La programmation événementielle en Visual Basic </dc:title>
</cp:coreProperties>
</file>