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F588-AE4E-4497-BD29-529245565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402876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0548-943E-41B1-8F88-E4795E821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402876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402876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1A24-835F-46F6-B437-546FB63FA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040" y="126828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0" y="126828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402876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040" y="402876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800" y="4028760"/>
            <a:ext cx="2782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6207-2A69-436D-9334-ACB7B19AF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B7F9-39C9-44B2-A8B8-D8C1C3520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66B0-737D-4CAA-93A9-7495E8ED9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5207-133F-40E0-BD59-13A3AEF2F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0235-BCD6-432C-84C8-B09F2A323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304560"/>
            <a:ext cx="864216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0359-47EA-4FEF-B724-7586EE0E7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402876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9414-282D-475D-B7E1-9736B46D6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402876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48D2-B600-4728-AF47-5628D6359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96280"/>
            <a:ext cx="8642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8280"/>
            <a:ext cx="42170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402876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2010-AD3F-4890-B833-863E17293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6019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019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-360" y="-36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7A0C-B559-43DD-8011-41502C34E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files.quadrantcommunications.be/Quadrant.nsf/804ab887fef03a13c12566bb0030464c/45680c6e91b74fc2c1256c8e0060ed32/$FILE/Linksys%20Bluetooth%20USB%20Adapter%20-%20USBBT100%20-%202300x1400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2286000"/>
            <a:ext cx="8134200" cy="179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réseaux informatiques et Intern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adresse IP est u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i permet d’identifier de façon unique chaque ordinate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é à un réseau à un moment donn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e est constituée de quatre octets (nombre entre 0 et 25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: 192.168.180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le réseau local on peut choisir comme l'on veut les adresses IP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resses privé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=Internet Protocol = Protocole d'échange des données sur les réseaux actuels (voir suite du c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E3B8-2381-4A5E-AE4B-D0749421C39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putr3"/>
          <p:cNvSpPr/>
          <p:nvPr/>
        </p:nvSpPr>
        <p:spPr>
          <a:xfrm>
            <a:off x="2987640" y="220500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putr3"/>
          <p:cNvSpPr/>
          <p:nvPr/>
        </p:nvSpPr>
        <p:spPr>
          <a:xfrm>
            <a:off x="3059280" y="429264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putr3"/>
          <p:cNvSpPr/>
          <p:nvPr/>
        </p:nvSpPr>
        <p:spPr>
          <a:xfrm>
            <a:off x="1692360" y="335772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4140000" y="467172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3" name=""/>
          <p:cNvCxnSpPr/>
          <p:nvPr/>
        </p:nvCxnSpPr>
        <p:spPr>
          <a:xfrm>
            <a:off x="4787640" y="530028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100" idx="4"/>
            <a:endCxn id="105" idx="1"/>
          </p:cNvCxnSpPr>
          <p:nvPr/>
        </p:nvCxnSpPr>
        <p:spPr>
          <a:xfrm flipV="1">
            <a:off x="3904920" y="4093920"/>
            <a:ext cx="2539080" cy="5227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06" name=""/>
          <p:cNvCxnSpPr>
            <a:stCxn id="99" idx="4"/>
            <a:endCxn id="105" idx="1"/>
          </p:cNvCxnSpPr>
          <p:nvPr/>
        </p:nvCxnSpPr>
        <p:spPr>
          <a:xfrm>
            <a:off x="3492360" y="2852280"/>
            <a:ext cx="2952000" cy="1242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07" name=""/>
          <p:cNvCxnSpPr>
            <a:stCxn id="101" idx="4"/>
            <a:endCxn id="105" idx="1"/>
          </p:cNvCxnSpPr>
          <p:nvPr/>
        </p:nvCxnSpPr>
        <p:spPr>
          <a:xfrm>
            <a:off x="2538360" y="3681000"/>
            <a:ext cx="3906000" cy="41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1689120" cy="1186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43640" y="4653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routeur adsl wi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5084640"/>
            <a:ext cx="1008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537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e wifi à brancher sur port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28000" y="4508640"/>
            <a:ext cx="79200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50028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3389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âble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2205000"/>
            <a:ext cx="792360" cy="493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27640" y="191628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85264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4797360"/>
            <a:ext cx="208944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06864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558972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rque : c'est le même principe avec les freebox, neufbox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41F0-3081-4758-AFA1-30E2611AB8F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le réseau internet les ordinateurs connectés ont une adresse IP attribuée par 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nisseur d'accès Inter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'est son adres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aque fois que vous connectez sur internet par modem, le F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ous attribue une adresse I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dite adres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 dynam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protocole qui gère cette méthode est le 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HC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 host configuration protocol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s FAI proposent cependant une IP fix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2359-7400-4EEE-BF4A-C4627043DE6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putr3"/>
          <p:cNvSpPr/>
          <p:nvPr/>
        </p:nvSpPr>
        <p:spPr>
          <a:xfrm>
            <a:off x="2987640" y="220500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putr3"/>
          <p:cNvSpPr/>
          <p:nvPr/>
        </p:nvSpPr>
        <p:spPr>
          <a:xfrm>
            <a:off x="3059280" y="429264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mputr3"/>
          <p:cNvSpPr/>
          <p:nvPr/>
        </p:nvSpPr>
        <p:spPr>
          <a:xfrm>
            <a:off x="1692360" y="335772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>
            <a:off x="4140000" y="467172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9" name=""/>
          <p:cNvCxnSpPr/>
          <p:nvPr/>
        </p:nvCxnSpPr>
        <p:spPr>
          <a:xfrm>
            <a:off x="4787640" y="530028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6" idx="4"/>
            <a:endCxn id="131" idx="1"/>
          </p:cNvCxnSpPr>
          <p:nvPr/>
        </p:nvCxnSpPr>
        <p:spPr>
          <a:xfrm flipV="1">
            <a:off x="3904920" y="4093920"/>
            <a:ext cx="2539080" cy="5227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32" name=""/>
          <p:cNvCxnSpPr>
            <a:stCxn id="125" idx="4"/>
            <a:endCxn id="131" idx="1"/>
          </p:cNvCxnSpPr>
          <p:nvPr/>
        </p:nvCxnSpPr>
        <p:spPr>
          <a:xfrm>
            <a:off x="3492360" y="2852280"/>
            <a:ext cx="2952000" cy="1242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33" name=""/>
          <p:cNvCxnSpPr>
            <a:stCxn id="127" idx="4"/>
            <a:endCxn id="131" idx="1"/>
          </p:cNvCxnSpPr>
          <p:nvPr/>
        </p:nvCxnSpPr>
        <p:spPr>
          <a:xfrm>
            <a:off x="2538360" y="3681000"/>
            <a:ext cx="3906000" cy="41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1689120" cy="1186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43640" y="4653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routeur adsl wi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5084640"/>
            <a:ext cx="1008000" cy="6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47640" y="537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e wifi à brancher sur port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28000" y="4508640"/>
            <a:ext cx="79200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50028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3389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âble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792360" cy="493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427640" y="184464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852640"/>
            <a:ext cx="20890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797360"/>
            <a:ext cx="208944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2637000"/>
            <a:ext cx="2089080" cy="9169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privée du routeur: 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5445000"/>
            <a:ext cx="1873080" cy="9169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publique du routeur : 81.185.144.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C7E2-2595-4A45-98E7-9CA3FFE55A3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eut joindre un ordinateur connecté au réseau (local ou internet) en inscrivant son numéro IP dans l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re d’adres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’un navigateu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ternet explorer, mozilla firefo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3279600"/>
            <a:ext cx="7559640" cy="3578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73B4-6D46-4577-9710-F8054D1B01F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1197000"/>
            <a:ext cx="8713800" cy="5299200"/>
            <a:chOff x="0" y="1197000"/>
            <a:chExt cx="8713800" cy="529920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8713800" cy="5299200"/>
            </a:xfrm>
            <a:prstGeom prst="rect">
              <a:avLst/>
            </a:prstGeom>
            <a:ln w="9360">
              <a:solidFill>
                <a:srgbClr val="00cc99"/>
              </a:solidFill>
              <a:miter/>
            </a:ln>
          </p:spPr>
        </p:pic>
        <p:sp>
          <p:nvSpPr>
            <p:cNvPr id="153" name=""/>
            <p:cNvSpPr txBox="1"/>
            <p:nvPr/>
          </p:nvSpPr>
          <p:spPr>
            <a:xfrm>
              <a:off x="0" y="1197000"/>
              <a:ext cx="8713800" cy="529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24480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211640" y="2205000"/>
            <a:ext cx="2155680" cy="690480"/>
          </a:xfrm>
          <a:prstGeom prst="borderCallout1">
            <a:avLst>
              <a:gd name="adj1" fmla="val 18750"/>
              <a:gd name="adj2" fmla="val -8333"/>
              <a:gd name="adj3" fmla="val -30805"/>
              <a:gd name="adj4" fmla="val -10324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sse privée du routeur adsl wi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486400"/>
            <a:ext cx="24843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d'administration du rou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E081-B106-40A6-87E3-6AF3339D5F9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ais il est plus facile d’utiliser une adresse du type :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www.u-bourgogne.f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telle adresse s’appelle une adress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Uniform Resource Locato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om de domain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constitué de tout ce qui précède les slash (/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ans l'URL www.u-bourgogne.fr/modci/cadres.htm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u-bourgogne.fr : nom de doma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ci : sous-dossier sur le serveur hébergeant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dres.htm : page web située dans le dossier mod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300E-1077-4B14-A651-306042A6781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’est le systè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S (Domain Name System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i s’occupe de transcrire les adresses URL en adresses numériques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s’agit 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urs spécialis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i communiquent en permanence entre eux via internet pour mettre à jour leurs tables de correspondance URL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e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uer à l'année un nom de doma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t un espace sur un serveur web pour avoir son propre si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ww.gillesbousquet.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BC33-20A9-4A93-9925-93625B53585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Outils inclus dans Windows pour tester les fonctionnalités de réseaux : </a:t>
            </a:r>
            <a:r>
              <a:rPr b="0" lang="fr-FR" sz="3800" spc="-1" strike="noStrike">
                <a:solidFill>
                  <a:srgbClr val="000000"/>
                </a:solidFill>
                <a:latin typeface="Times New Roman"/>
              </a:rPr>
              <a:t>ipconfig et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fr-FR" sz="38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ouvrir une invite de command DOS </a:t>
            </a: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(démarrer/exécuter puis taper command ou cm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taper 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</a:rPr>
              <a:t>ipconfig  /all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 pour connaître la configuration réseau de l'ordinateu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taper 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</a:rPr>
              <a:t>ping www.google.fr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 pour tester la liaison avec le moteur de recherche google sans passer par un navigateur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705E-A867-4802-9A80-B05B6281F5E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pconfig /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9640" y="2031840"/>
            <a:ext cx="7632720" cy="4826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1960" y="2133720"/>
            <a:ext cx="1832040" cy="1049040"/>
          </a:xfrm>
          <a:prstGeom prst="borderCallout1">
            <a:avLst>
              <a:gd name="adj1" fmla="val 18750"/>
              <a:gd name="adj2" fmla="val -8333"/>
              <a:gd name="adj3" fmla="val 266870"/>
              <a:gd name="adj4" fmla="val -57106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resse mac de la carte réseau = code unique attribué à chaque carte réseau vendue dans le m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24720" y="3284640"/>
            <a:ext cx="1619280" cy="431640"/>
          </a:xfrm>
          <a:prstGeom prst="borderCallout1">
            <a:avLst>
              <a:gd name="adj1" fmla="val 18750"/>
              <a:gd name="adj2" fmla="val -8333"/>
              <a:gd name="adj3" fmla="val 489703"/>
              <a:gd name="adj4" fmla="val -54115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resse IP du l'ordin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4160" y="6281640"/>
            <a:ext cx="1728720" cy="576360"/>
          </a:xfrm>
          <a:prstGeom prst="borderCallout1">
            <a:avLst>
              <a:gd name="adj1" fmla="val 18750"/>
              <a:gd name="adj2" fmla="val -8333"/>
              <a:gd name="adj3" fmla="val -82092"/>
              <a:gd name="adj4" fmla="val 202569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resse IP du routeur pour l'accès à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50200" y="5715000"/>
            <a:ext cx="1693800" cy="863640"/>
          </a:xfrm>
          <a:prstGeom prst="borderCallout1">
            <a:avLst>
              <a:gd name="adj1" fmla="val 18750"/>
              <a:gd name="adj2" fmla="val -8333"/>
              <a:gd name="adj3" fmla="val 55148"/>
              <a:gd name="adj4" fmla="val -28305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ressess IP des serveurs DNS (principal et secondai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CDBD-68AC-4224-AC88-01151E3FA8A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Plan du cou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548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généralités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sur les réseaux informatiques et l'internet :</a:t>
            </a:r>
            <a:br>
              <a:rPr sz="36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ypes de réseaux, transport des fichiers, histor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usages actuels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tes web, moteurs de recherche, messagerie , téléchargement de fichiers, streaming, téléphonie IP, groupes de discussion et lettres de dif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9AE5-B08A-4915-A0FD-5274299868F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s adresses I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3017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1341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0F06-7DB6-457A-9EDA-784471A30AE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Intern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vec un I majuscul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t u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ndial qui met en relation des réseaux locaux d’ordinateu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rnet = réseau des réseau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vec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nuscule) est un terme anglais utilisé pour désigner une interconnexion de réseaux informatiques.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 la suite du cours, pas de distinctio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t le plus connu d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’Internet: l'échange de pages web au format HTM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hypertext markup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lon le protocole HTTP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hypertext transport protoc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9DB7-EF75-4706-A3F7-05A8F958CAD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utres services d’Intern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ile transfer protocol) : échange de fichiers entre deux ordinateu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6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:  serveur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6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load :  client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mple mail transfer protocol) : service d'envoi de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ost office protocol) : service de réception de m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ternet Message Access Protocol) : un autre mode d'échange de courrier électron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tocoles de transaction sécurisée, utilisés notamment pour le paiement sécuris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242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net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verture d'une session de travail sur un  ordinateur distant (unix) à partir d'un ordinateur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67A1-E7AB-4D03-935A-2133DB6B031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transport de l'information sur intern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= fichier informatique = suite de 0 et de 1 traduisant un texte, un son, une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fichier est transporté sur le réseau selon le protocole TCP/IP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coupage des fichiers en petits fichiers di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quets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quet IP = segment du fichier initial et position dans le fichier + adresse IP de l'expéditeur + adresse IP du destinataire + codes de contrô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CF1A-4B21-4691-A38F-CCFEF5D9A34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 : les paquets IP passent  par d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putr3"/>
          <p:cNvSpPr/>
          <p:nvPr/>
        </p:nvSpPr>
        <p:spPr>
          <a:xfrm>
            <a:off x="324000" y="3429000"/>
            <a:ext cx="64764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putr3"/>
          <p:cNvSpPr/>
          <p:nvPr/>
        </p:nvSpPr>
        <p:spPr>
          <a:xfrm>
            <a:off x="7885080" y="3284640"/>
            <a:ext cx="64764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erver"/>
          <p:cNvSpPr/>
          <p:nvPr/>
        </p:nvSpPr>
        <p:spPr>
          <a:xfrm>
            <a:off x="1692360" y="3429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erver"/>
          <p:cNvSpPr/>
          <p:nvPr/>
        </p:nvSpPr>
        <p:spPr>
          <a:xfrm>
            <a:off x="2771640" y="227664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erver"/>
          <p:cNvSpPr/>
          <p:nvPr/>
        </p:nvSpPr>
        <p:spPr>
          <a:xfrm>
            <a:off x="3348000" y="3645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erver"/>
          <p:cNvSpPr/>
          <p:nvPr/>
        </p:nvSpPr>
        <p:spPr>
          <a:xfrm>
            <a:off x="5364000" y="3429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erver"/>
          <p:cNvSpPr/>
          <p:nvPr/>
        </p:nvSpPr>
        <p:spPr>
          <a:xfrm>
            <a:off x="4859280" y="191628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erver"/>
          <p:cNvSpPr/>
          <p:nvPr/>
        </p:nvSpPr>
        <p:spPr>
          <a:xfrm>
            <a:off x="2987640" y="5157720"/>
            <a:ext cx="360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erver"/>
          <p:cNvSpPr/>
          <p:nvPr/>
        </p:nvSpPr>
        <p:spPr>
          <a:xfrm>
            <a:off x="5148360" y="5445000"/>
            <a:ext cx="360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erver"/>
          <p:cNvSpPr/>
          <p:nvPr/>
        </p:nvSpPr>
        <p:spPr>
          <a:xfrm>
            <a:off x="6516720" y="414972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0" idx="4"/>
            <a:endCxn id="182" idx="8"/>
          </p:cNvCxnSpPr>
          <p:nvPr/>
        </p:nvCxnSpPr>
        <p:spPr>
          <a:xfrm>
            <a:off x="867960" y="3644640"/>
            <a:ext cx="824760" cy="1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91" name=""/>
          <p:cNvCxnSpPr>
            <a:stCxn id="182" idx="9"/>
            <a:endCxn id="183" idx="8"/>
          </p:cNvCxnSpPr>
          <p:nvPr/>
        </p:nvCxnSpPr>
        <p:spPr>
          <a:xfrm flipV="1">
            <a:off x="2052360" y="2491920"/>
            <a:ext cx="719640" cy="115344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92" name=""/>
          <p:cNvCxnSpPr>
            <a:stCxn id="183" idx="9"/>
            <a:endCxn id="186" idx="8"/>
          </p:cNvCxnSpPr>
          <p:nvPr/>
        </p:nvCxnSpPr>
        <p:spPr>
          <a:xfrm flipV="1">
            <a:off x="3132000" y="2131200"/>
            <a:ext cx="1728000" cy="361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193" name=""/>
          <p:cNvCxnSpPr>
            <a:stCxn id="183" idx="10"/>
            <a:endCxn id="184" idx="8"/>
          </p:cNvCxnSpPr>
          <p:nvPr/>
        </p:nvCxnSpPr>
        <p:spPr>
          <a:xfrm>
            <a:off x="3132000" y="2491920"/>
            <a:ext cx="216720" cy="136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"/>
          <p:cNvCxnSpPr>
            <a:stCxn id="182" idx="10"/>
            <a:endCxn id="184" idx="9"/>
          </p:cNvCxnSpPr>
          <p:nvPr/>
        </p:nvCxnSpPr>
        <p:spPr>
          <a:xfrm>
            <a:off x="2052720" y="3644640"/>
            <a:ext cx="1296000" cy="21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"/>
          <p:cNvCxnSpPr>
            <a:stCxn id="182" idx="11"/>
            <a:endCxn id="187" idx="8"/>
          </p:cNvCxnSpPr>
          <p:nvPr/>
        </p:nvCxnSpPr>
        <p:spPr>
          <a:xfrm>
            <a:off x="2052360" y="3645000"/>
            <a:ext cx="93564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"/>
          <p:cNvCxnSpPr>
            <a:stCxn id="186" idx="9"/>
            <a:endCxn id="185" idx="8"/>
          </p:cNvCxnSpPr>
          <p:nvPr/>
        </p:nvCxnSpPr>
        <p:spPr>
          <a:xfrm>
            <a:off x="5219640" y="2131560"/>
            <a:ext cx="326160" cy="129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"/>
          <p:cNvCxnSpPr>
            <a:stCxn id="184" idx="10"/>
            <a:endCxn id="185" idx="9"/>
          </p:cNvCxnSpPr>
          <p:nvPr/>
        </p:nvCxnSpPr>
        <p:spPr>
          <a:xfrm flipV="1">
            <a:off x="3708000" y="3644280"/>
            <a:ext cx="1656360" cy="21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"/>
          <p:cNvCxnSpPr>
            <a:stCxn id="187" idx="9"/>
            <a:endCxn id="188" idx="8"/>
          </p:cNvCxnSpPr>
          <p:nvPr/>
        </p:nvCxnSpPr>
        <p:spPr>
          <a:xfrm>
            <a:off x="3347640" y="5373720"/>
            <a:ext cx="180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"/>
          <p:cNvCxnSpPr>
            <a:stCxn id="187" idx="10"/>
            <a:endCxn id="184" idx="11"/>
          </p:cNvCxnSpPr>
          <p:nvPr/>
        </p:nvCxnSpPr>
        <p:spPr>
          <a:xfrm flipV="1">
            <a:off x="3168360" y="4075920"/>
            <a:ext cx="361080" cy="10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"/>
          <p:cNvCxnSpPr>
            <a:stCxn id="185" idx="10"/>
            <a:endCxn id="189" idx="8"/>
          </p:cNvCxnSpPr>
          <p:nvPr/>
        </p:nvCxnSpPr>
        <p:spPr>
          <a:xfrm>
            <a:off x="5724000" y="3645000"/>
            <a:ext cx="79308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"/>
          <p:cNvCxnSpPr>
            <a:stCxn id="189" idx="9"/>
            <a:endCxn id="181" idx="4"/>
          </p:cNvCxnSpPr>
          <p:nvPr/>
        </p:nvCxnSpPr>
        <p:spPr>
          <a:xfrm flipV="1">
            <a:off x="6877080" y="3499920"/>
            <a:ext cx="1008720" cy="866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"/>
          <p:cNvCxnSpPr>
            <a:stCxn id="186" idx="10"/>
            <a:endCxn id="181" idx="5"/>
          </p:cNvCxnSpPr>
          <p:nvPr/>
        </p:nvCxnSpPr>
        <p:spPr>
          <a:xfrm>
            <a:off x="5219640" y="2131560"/>
            <a:ext cx="2666160" cy="1369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03" name=""/>
          <p:cNvCxnSpPr>
            <a:stCxn id="188" idx="9"/>
            <a:endCxn id="189" idx="10"/>
          </p:cNvCxnSpPr>
          <p:nvPr/>
        </p:nvCxnSpPr>
        <p:spPr>
          <a:xfrm flipV="1">
            <a:off x="5508720" y="4365360"/>
            <a:ext cx="100872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"/>
          <p:cNvCxnSpPr>
            <a:stCxn id="187" idx="11"/>
            <a:endCxn id="185" idx="11"/>
          </p:cNvCxnSpPr>
          <p:nvPr/>
        </p:nvCxnSpPr>
        <p:spPr>
          <a:xfrm flipV="1">
            <a:off x="3348000" y="3644640"/>
            <a:ext cx="201672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"/>
          <p:cNvSpPr/>
          <p:nvPr/>
        </p:nvSpPr>
        <p:spPr>
          <a:xfrm>
            <a:off x="250920" y="4149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metteur (ex. serveur we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24720" y="40053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aire (ex. votre ordinate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6400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eau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213372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1916280"/>
            <a:ext cx="360360" cy="142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19890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65760" y="22050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616572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aquet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9988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343044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2637000"/>
            <a:ext cx="360360" cy="142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96000" y="1844640"/>
            <a:ext cx="1512720" cy="1440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48C5-D656-4BEF-B412-82B7CEF88A3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putr3"/>
          <p:cNvSpPr/>
          <p:nvPr/>
        </p:nvSpPr>
        <p:spPr>
          <a:xfrm>
            <a:off x="324000" y="3429000"/>
            <a:ext cx="64764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putr3"/>
          <p:cNvSpPr/>
          <p:nvPr/>
        </p:nvSpPr>
        <p:spPr>
          <a:xfrm>
            <a:off x="7885080" y="3284640"/>
            <a:ext cx="64764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erver"/>
          <p:cNvSpPr/>
          <p:nvPr/>
        </p:nvSpPr>
        <p:spPr>
          <a:xfrm>
            <a:off x="1692360" y="3429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erver"/>
          <p:cNvSpPr/>
          <p:nvPr/>
        </p:nvSpPr>
        <p:spPr>
          <a:xfrm>
            <a:off x="2771640" y="227664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erver"/>
          <p:cNvSpPr/>
          <p:nvPr/>
        </p:nvSpPr>
        <p:spPr>
          <a:xfrm>
            <a:off x="3348000" y="3645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erver"/>
          <p:cNvSpPr/>
          <p:nvPr/>
        </p:nvSpPr>
        <p:spPr>
          <a:xfrm>
            <a:off x="5364000" y="342900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erver"/>
          <p:cNvSpPr/>
          <p:nvPr/>
        </p:nvSpPr>
        <p:spPr>
          <a:xfrm>
            <a:off x="4859280" y="191628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erver"/>
          <p:cNvSpPr/>
          <p:nvPr/>
        </p:nvSpPr>
        <p:spPr>
          <a:xfrm>
            <a:off x="2987640" y="5157720"/>
            <a:ext cx="360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erver"/>
          <p:cNvSpPr/>
          <p:nvPr/>
        </p:nvSpPr>
        <p:spPr>
          <a:xfrm>
            <a:off x="5148360" y="5445000"/>
            <a:ext cx="360360" cy="43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erver"/>
          <p:cNvSpPr/>
          <p:nvPr/>
        </p:nvSpPr>
        <p:spPr>
          <a:xfrm>
            <a:off x="6516720" y="4149720"/>
            <a:ext cx="360360" cy="431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19" idx="4"/>
            <a:endCxn id="221" idx="8"/>
          </p:cNvCxnSpPr>
          <p:nvPr/>
        </p:nvCxnSpPr>
        <p:spPr>
          <a:xfrm>
            <a:off x="867960" y="3644640"/>
            <a:ext cx="824760" cy="1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30" name=""/>
          <p:cNvCxnSpPr>
            <a:stCxn id="221" idx="9"/>
            <a:endCxn id="222" idx="8"/>
          </p:cNvCxnSpPr>
          <p:nvPr/>
        </p:nvCxnSpPr>
        <p:spPr>
          <a:xfrm flipV="1">
            <a:off x="2052360" y="2491920"/>
            <a:ext cx="719640" cy="1153440"/>
          </a:xfrm>
          <a:prstGeom prst="straightConnector1">
            <a:avLst/>
          </a:prstGeom>
          <a:ln w="38160">
            <a:solidFill>
              <a:srgbClr val="ff0066"/>
            </a:solidFill>
            <a:prstDash val="dashDot"/>
            <a:miter/>
            <a:tailEnd len="med" type="arrow" w="med"/>
          </a:ln>
        </p:spPr>
      </p:cxnSp>
      <p:cxnSp>
        <p:nvCxnSpPr>
          <p:cNvPr id="231" name=""/>
          <p:cNvCxnSpPr>
            <a:stCxn id="222" idx="9"/>
            <a:endCxn id="225" idx="8"/>
          </p:cNvCxnSpPr>
          <p:nvPr/>
        </p:nvCxnSpPr>
        <p:spPr>
          <a:xfrm flipV="1">
            <a:off x="3132000" y="2131200"/>
            <a:ext cx="1728000" cy="361080"/>
          </a:xfrm>
          <a:prstGeom prst="straightConnector1">
            <a:avLst/>
          </a:prstGeom>
          <a:ln w="38160">
            <a:solidFill>
              <a:srgbClr val="ff0066"/>
            </a:solidFill>
            <a:prstDash val="dashDot"/>
            <a:miter/>
            <a:tailEnd len="med" type="arrow" w="med"/>
          </a:ln>
        </p:spPr>
      </p:cxnSp>
      <p:cxnSp>
        <p:nvCxnSpPr>
          <p:cNvPr id="232" name=""/>
          <p:cNvCxnSpPr>
            <a:stCxn id="222" idx="10"/>
            <a:endCxn id="223" idx="8"/>
          </p:cNvCxnSpPr>
          <p:nvPr/>
        </p:nvCxnSpPr>
        <p:spPr>
          <a:xfrm>
            <a:off x="3132000" y="2491920"/>
            <a:ext cx="216720" cy="136908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33" name=""/>
          <p:cNvCxnSpPr>
            <a:stCxn id="221" idx="10"/>
            <a:endCxn id="223" idx="9"/>
          </p:cNvCxnSpPr>
          <p:nvPr/>
        </p:nvCxnSpPr>
        <p:spPr>
          <a:xfrm>
            <a:off x="2052720" y="3644640"/>
            <a:ext cx="1296000" cy="21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"/>
          <p:cNvCxnSpPr>
            <a:stCxn id="221" idx="11"/>
            <a:endCxn id="226" idx="8"/>
          </p:cNvCxnSpPr>
          <p:nvPr/>
        </p:nvCxnSpPr>
        <p:spPr>
          <a:xfrm>
            <a:off x="2052360" y="3645000"/>
            <a:ext cx="93564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"/>
          <p:cNvCxnSpPr>
            <a:stCxn id="225" idx="9"/>
            <a:endCxn id="224" idx="8"/>
          </p:cNvCxnSpPr>
          <p:nvPr/>
        </p:nvCxnSpPr>
        <p:spPr>
          <a:xfrm>
            <a:off x="5219640" y="2131560"/>
            <a:ext cx="326160" cy="1297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"/>
          <p:cNvCxnSpPr>
            <a:stCxn id="223" idx="10"/>
            <a:endCxn id="224" idx="9"/>
          </p:cNvCxnSpPr>
          <p:nvPr/>
        </p:nvCxnSpPr>
        <p:spPr>
          <a:xfrm flipV="1">
            <a:off x="3708000" y="3644280"/>
            <a:ext cx="1656360" cy="21636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37" name=""/>
          <p:cNvCxnSpPr>
            <a:stCxn id="226" idx="9"/>
            <a:endCxn id="227" idx="8"/>
          </p:cNvCxnSpPr>
          <p:nvPr/>
        </p:nvCxnSpPr>
        <p:spPr>
          <a:xfrm>
            <a:off x="3347640" y="5373720"/>
            <a:ext cx="180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"/>
          <p:cNvCxnSpPr>
            <a:stCxn id="226" idx="10"/>
            <a:endCxn id="223" idx="11"/>
          </p:cNvCxnSpPr>
          <p:nvPr/>
        </p:nvCxnSpPr>
        <p:spPr>
          <a:xfrm flipV="1">
            <a:off x="3168360" y="4075920"/>
            <a:ext cx="361080" cy="1081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"/>
          <p:cNvCxnSpPr>
            <a:stCxn id="224" idx="10"/>
            <a:endCxn id="228" idx="8"/>
          </p:cNvCxnSpPr>
          <p:nvPr/>
        </p:nvCxnSpPr>
        <p:spPr>
          <a:xfrm>
            <a:off x="5724000" y="3645000"/>
            <a:ext cx="793080" cy="72144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40" name=""/>
          <p:cNvCxnSpPr>
            <a:stCxn id="228" idx="9"/>
            <a:endCxn id="220" idx="4"/>
          </p:cNvCxnSpPr>
          <p:nvPr/>
        </p:nvCxnSpPr>
        <p:spPr>
          <a:xfrm flipV="1">
            <a:off x="6877080" y="3499920"/>
            <a:ext cx="1008720" cy="866160"/>
          </a:xfrm>
          <a:prstGeom prst="straightConnector1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41" name=""/>
          <p:cNvCxnSpPr>
            <a:stCxn id="225" idx="10"/>
            <a:endCxn id="220" idx="5"/>
          </p:cNvCxnSpPr>
          <p:nvPr/>
        </p:nvCxnSpPr>
        <p:spPr>
          <a:xfrm>
            <a:off x="5219640" y="2131560"/>
            <a:ext cx="2666160" cy="1369080"/>
          </a:xfrm>
          <a:prstGeom prst="straightConnector1">
            <a:avLst/>
          </a:prstGeom>
          <a:ln w="38160">
            <a:solidFill>
              <a:srgbClr val="ff0066"/>
            </a:solidFill>
            <a:prstDash val="dashDot"/>
            <a:miter/>
            <a:tailEnd len="med" type="arrow" w="med"/>
          </a:ln>
        </p:spPr>
      </p:cxnSp>
      <p:cxnSp>
        <p:nvCxnSpPr>
          <p:cNvPr id="242" name=""/>
          <p:cNvCxnSpPr>
            <a:stCxn id="227" idx="9"/>
            <a:endCxn id="228" idx="10"/>
          </p:cNvCxnSpPr>
          <p:nvPr/>
        </p:nvCxnSpPr>
        <p:spPr>
          <a:xfrm flipV="1">
            <a:off x="5508720" y="4365360"/>
            <a:ext cx="1008720" cy="1296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"/>
          <p:cNvCxnSpPr>
            <a:stCxn id="226" idx="11"/>
            <a:endCxn id="224" idx="11"/>
          </p:cNvCxnSpPr>
          <p:nvPr/>
        </p:nvCxnSpPr>
        <p:spPr>
          <a:xfrm flipV="1">
            <a:off x="3348000" y="3644640"/>
            <a:ext cx="2016720" cy="172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4" name=""/>
          <p:cNvSpPr/>
          <p:nvPr/>
        </p:nvSpPr>
        <p:spPr>
          <a:xfrm>
            <a:off x="250920" y="4149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met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472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eau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2997360"/>
            <a:ext cx="360360" cy="142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34290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7336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378936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616572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aquet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35280" y="299880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343044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48360" y="3789360"/>
            <a:ext cx="360360" cy="1429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brement : le routeur choisit un autre che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2133720"/>
            <a:ext cx="504720" cy="431640"/>
          </a:xfrm>
          <a:prstGeom prst="noSmoking">
            <a:avLst>
              <a:gd name="adj" fmla="val 125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2317-4495-4831-B13F-86BE2E684A9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"traceur de route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ci Visual Rou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chemin des paquets 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ci www.clarin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568944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0CCA-B136-4D49-88FF-CBC6AE0CF3F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284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084720" y="836640"/>
            <a:ext cx="2233800" cy="576360"/>
          </a:xfrm>
          <a:prstGeom prst="borderCallout1">
            <a:avLst>
              <a:gd name="adj1" fmla="val 18750"/>
              <a:gd name="adj2" fmla="val -8333"/>
              <a:gd name="adj3" fmla="val 491185"/>
              <a:gd name="adj4" fmla="val -131342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resses IP des rou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D72E-61D9-403F-8C22-4F7D5F5C54E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ébit de transmission : nombre de bits ou d'octets transportés par secon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fichier informatique est une suite de 1 et de 0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suite de huit bits est u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aille d'un fichier se mesure en octets, Kilooctets (Ko) , Megaoctets (Mo), Gigagoctets (G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8FF1-0C0C-4CF6-B3B1-D07B22BA8E3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voi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Kilooctet = 1024 octets (1 K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Megaoctet = 1024 Ko (1 M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Gigaoctet = 1024 Mo   (1 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on arrondit 1024 à 10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écrit "mo" (ko,go) au lieu de "Mo" (Ko,Go). Ex : 1 go= 1 milliards d'oct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E7D9-AF1E-4478-A46D-2DAEC137600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Plan du cou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548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techniques de création de sites web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: langage html, scripts client (javascript), scripts serveur (sql), feuilles de style, animations flash, CMS, ergonomie des sites ("usability").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se protéger sur l'internet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irus et troyens, spam, adware, cookies, pare-feu, confidentialité, cryptage, authentification et sig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roit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et l'internet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C7C1-E8F8-4C2F-A1C6-15B9A495F5D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avoi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photo numé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compressée : quelques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ée : &lt; 1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tex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ans imag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’une centaine de pag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1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chans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compressée : 40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ée : 2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fil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que non compressé : 4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é : 700 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22C6-04DE-445B-BE37-FD291E916D10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débit dépen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type connexion de l'ordinateur au réseau : modem classique (56 Kbps) , modem adsl (jusqu'à 20 Mbps), câble (idem), satellite (512 Kbp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réseau internet local et mondial (dans certains pays : débit inférieur à l'adsl en fra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: adsl à 4 Mbps. temps de téléchargement d'un fichier de 60 Mo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2ACB-E911-49BE-B31C-ACDA69EFEDD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pon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Mbps = 4 Mbits par seco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en octe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bits = 1 oc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6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Mbits=   Mo = 0,5 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r un fichier de 60 Mo,  il faut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60:0,5=120 secondes soi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m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que : en anglais octet=Byte e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Mb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Bps=1 Mo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771640" y="3357720"/>
                <a:ext cx="30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0644-AFC3-4B32-A359-C698817ECE92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em ADS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em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odulateur-démodulateu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s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symmetric Digital Subscriber L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 1 et 0 sont transformés en deux fréquences distinctes pour transiter par le fil de cuivre téléphonique jusqu'au central. Ces fréquences sont supérieures aux fréquences vocal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oix et internet sont transmis simultané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ébit descendant (download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: serveu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ode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 : 8 Mb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ébit montant (upload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: modem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rveu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u moins 4 fois moins en général que le débit descend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écessite un central téléphonique adapté et proche (&lt;5 k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5303-9D31-4A84-882C-D7D4F61C480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2505240" cy="4672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95280" y="1052640"/>
            <a:ext cx="547200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emière transmission optique : le télégraphe d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happ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n 179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incipe : tours placées sur des collines avec sémaphores actionnés manuel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eau : En 1844, le réseau Chappe est composée de 534 stations, et près de 5 000 km de lignes. 29 villes sont reliées à Paris. (wikipe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tations distantes de 9 à 12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itesse de transmission: 700 km en 2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AF74-AE6A-4E24-92B3-071F05A47F3F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345200" cy="4776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580000" y="306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25653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es Chappe (extra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7EDA-455E-4F98-959A-51FFD575C1FA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698508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A4F4-39DC-43DB-B44B-03797004FDC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0920" y="1841400"/>
            <a:ext cx="7705800" cy="4711680"/>
            <a:chOff x="250920" y="1841400"/>
            <a:chExt cx="7705800" cy="471168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50920" y="1841400"/>
              <a:ext cx="770580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 txBox="1"/>
            <p:nvPr/>
          </p:nvSpPr>
          <p:spPr>
            <a:xfrm>
              <a:off x="250920" y="1841400"/>
              <a:ext cx="7705800" cy="471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24480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708360" y="1197000"/>
            <a:ext cx="30956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is proches de dij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1700280"/>
            <a:ext cx="215640" cy="2592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CAFC-836D-4E2D-A5B2-B728A37A3891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ransmission éléctrique de l’information commence avec le télégraphe (Charles Wheatstone, 183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Morse (Samuel Morse) :  alternance de signaux éléctriques longs et brefs pour coder et transmettre caractères et mo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54 : Principe du Téléphone découvert par Charles Bourse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DA67-EF93-4D47-A489-28B0FC87DD56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origines d'intern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wikipedia et http://www.9atech.com/page_fete1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http://histoire.info.online.fr/net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962, en pleine guerre froide, l'US Air Force a demande à un petit groupe de chercheurs de créer un réseau de communication qui puiss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ésister à une attaque nucléair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concept de ce réseau reposait sur un systèm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écentralisé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jamais une ou plusieurs machines sont détruites, le réseau continuent à fonctio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aul Bara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l'acteur principal du pro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wikipe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Paul_Baran"/>
          <p:cNvPicPr/>
          <p:nvPr/>
        </p:nvPicPr>
        <p:blipFill>
          <a:blip r:embed="rId1"/>
          <a:stretch/>
        </p:blipFill>
        <p:spPr>
          <a:xfrm>
            <a:off x="7164360" y="4869000"/>
            <a:ext cx="1473120" cy="17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EDC2-FC22-4663-9F0B-CE6EF6340C5A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51640" y="457992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seau informatique : ordinateurs connectés entre eux pour échanger des donné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éseau lo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thernet avec serv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 local area network (L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putr3"/>
          <p:cNvSpPr/>
          <p:nvPr/>
        </p:nvSpPr>
        <p:spPr>
          <a:xfrm>
            <a:off x="2771640" y="3429000"/>
            <a:ext cx="100836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erver"/>
          <p:cNvSpPr/>
          <p:nvPr/>
        </p:nvSpPr>
        <p:spPr>
          <a:xfrm>
            <a:off x="7524720" y="4076640"/>
            <a:ext cx="1224000" cy="1224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24720" y="522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putr3"/>
          <p:cNvSpPr/>
          <p:nvPr/>
        </p:nvSpPr>
        <p:spPr>
          <a:xfrm>
            <a:off x="5364000" y="3357720"/>
            <a:ext cx="100836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putr3"/>
          <p:cNvSpPr/>
          <p:nvPr/>
        </p:nvSpPr>
        <p:spPr>
          <a:xfrm>
            <a:off x="2843280" y="551664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mputr3"/>
          <p:cNvSpPr/>
          <p:nvPr/>
        </p:nvSpPr>
        <p:spPr>
          <a:xfrm>
            <a:off x="1476360" y="4581360"/>
            <a:ext cx="1008000" cy="648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/>
          <p:nvPr/>
        </p:nvCxnSpPr>
        <p:spPr>
          <a:xfrm>
            <a:off x="3924000" y="589572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5" idx="4"/>
            <a:endCxn id="48" idx="1"/>
          </p:cNvCxnSpPr>
          <p:nvPr/>
        </p:nvCxnSpPr>
        <p:spPr>
          <a:xfrm flipV="1">
            <a:off x="3688920" y="5155920"/>
            <a:ext cx="1963080" cy="684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4" idx="4"/>
            <a:endCxn id="48" idx="1"/>
          </p:cNvCxnSpPr>
          <p:nvPr/>
        </p:nvCxnSpPr>
        <p:spPr>
          <a:xfrm flipH="1">
            <a:off x="5651280" y="4005000"/>
            <a:ext cx="218160" cy="1151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1" idx="4"/>
            <a:endCxn id="48" idx="1"/>
          </p:cNvCxnSpPr>
          <p:nvPr/>
        </p:nvCxnSpPr>
        <p:spPr>
          <a:xfrm>
            <a:off x="3276360" y="4076280"/>
            <a:ext cx="237528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6" idx="4"/>
            <a:endCxn id="48" idx="1"/>
          </p:cNvCxnSpPr>
          <p:nvPr/>
        </p:nvCxnSpPr>
        <p:spPr>
          <a:xfrm>
            <a:off x="2322360" y="4905000"/>
            <a:ext cx="3330000" cy="251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611280" y="501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602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0" idx="2"/>
          </p:cNvCxnSpPr>
          <p:nvPr/>
        </p:nvCxnSpPr>
        <p:spPr>
          <a:xfrm>
            <a:off x="4572000" y="6552720"/>
            <a:ext cx="2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48" idx="3"/>
            <a:endCxn id="52" idx="8"/>
          </p:cNvCxnSpPr>
          <p:nvPr/>
        </p:nvCxnSpPr>
        <p:spPr>
          <a:xfrm flipV="1">
            <a:off x="6804000" y="4688640"/>
            <a:ext cx="721440" cy="467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5580000" y="5589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 (ou hu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1C7B-D0EB-4F05-A861-2EB461FBA7D6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origines d'intern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6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l’agence ARPA du ministère de la défense américain développe un premier réseau à commutation de paquets (type paquets IP) en s’inspirant des travaux de Paul Bar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réseau ARPANET relie quatre instituts universitaires 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Université de Stanford, l'université de Californie à Los Angeles, l'université de Californie à Santa Barbara et l'université d'Ut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2D67-6CFD-4076-A620-FCA220BD4D6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origines d'intern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mise au point d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rier électro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t introduction de l'arobase @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naissance du protoco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111 ordinateurs connectés à ARPA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réseau USENET (Unix User Network) : groupes de discu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F95E-C76A-41E5-B46B-05E681308A66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origines d'interne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premier virus sur le réseau améric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la partie militaire de l’ARPANET se sépare du réseau princip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ébut du réseau scientifique et public (mais toujours pas de sites web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8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environ 5000 machines connectées su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BECE-8320-49E4-85CD-B84B76503554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origines du web 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 Berners-L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ysicien au CERN (Genêve) développe le WWW=World Wide We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= protocole HTTP pour le transport des pag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ypertext transport protoc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+ langage HTM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our la mise en forme des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succès de Mosaic, navigateur web ancêtre d'internet explor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10DF-D6FF-4FB8-9A91-2AF4909F5B7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origines d'intern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300 000 ordinateurs connect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e world wide web représente 1% seulement du trafic d'Internet (600 sites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reste est composé des accès à distance (telnet), du courrier électronique et des transferts de fichier (ft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le world wide web compte 10.000 serveurs (dont 20% à usage commercial) et 10 millions d'utilisat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création du  "World-Wide Web Consortium" (W3C) qui régule mondialement l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95C2-E265-4640-8650-BA8B9DC27194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jhemans.powerup.com.au/Internet_Statistics/internet_usage_statistic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912000" cy="501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4464-4586-4245-89D0-7AB56369AFBD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lib.org/dlib/april03/lavoie/04lavoi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058160" cy="44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FB17-FCF5-4732-8EE4-107652D2EE61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lib.org/dlib/april03/lavoie/04lavoi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869160" cy="470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13CA-ACD0-4820-901C-1379FAF8DECF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C936-2BED-4C4C-85D6-82886215E09E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5003640" cy="535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F399-C07A-4719-A691-8154731695D0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ériel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eur = logiciel serve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ndows 2003 serveur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 réseau+ disque dur de sauvegar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inateurs clients :  logiciel cli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icence payante en plus de windows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arte résea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ble ether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âble téléphone, prises différentes) 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îtiers d'interconnexion : hub,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ernative 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éseau sans fil ou WIFI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Fidelit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7769-03F2-418E-82EB-3A8B33119EF8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7488000" cy="500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654A-F150-407E-8983-6FDFA632AC18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1601640"/>
            <a:ext cx="8642520" cy="5256360"/>
            <a:chOff x="0" y="1601640"/>
            <a:chExt cx="8642520" cy="525636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0" y="1601640"/>
              <a:ext cx="86425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 txBox="1"/>
            <p:nvPr/>
          </p:nvSpPr>
          <p:spPr>
            <a:xfrm>
              <a:off x="0" y="1601640"/>
              <a:ext cx="8642520" cy="525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24480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16000" y="1197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urnaldune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4AF8-5A3E-48C7-A1C0-0C4D9A853011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16000" y="1197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ournaldune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424720" cy="51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FD82-7345-45A8-827F-6461920C63A8}" type="slidenum">
              <a:t>52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nctionnem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nua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 utilisateurs et mots de passe sur le serveur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hent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écessaire à la connexion pour les cli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oits spécifiq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ur chaque utilisateur ou groupe d'utilisateurs : accès limités à certains dossiers  du serveur, restriction particulière dans l'usage des logici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èle client/serve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le client demande un service au serveur, le serveur fournit le service : impression, logiciel, fichier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6D1E-E3B9-4588-B88A-91A0DEBADD0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x variantes (éventuellement combiné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ordinateur client = simple ter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e logiciel installé sur le clien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installé et exécuté sur le disque dur du serv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80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é de maintenance : pas de logiciel à installer sur chaque p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80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écurité : l'ordinateur client n'a pas forcément de lecteur de cd-rom, ni de disque d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vénient : nécessite un serveur puiss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ordinateur client = ordinateur class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s installés et exécutés sur les postes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ôle du serveur limité à l'authentification, au partage des dossiers, à l'i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7B8D-DC4B-4A61-87B6-BA26DD8CD59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éseau domestiqu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peer-to-pee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'égal à ég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u poste à poste: chaque machine est à la fois client et serve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que poste décide des fichiers ou services (imprimantes, connexion Internet) qu'elle partage avec les autres : pas d'administration centr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 d'achat de logiciel serveur (fonctionnalité incluse dans windows ou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4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ériel : câble ou borne wif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8C0D-3C0E-42A3-8BBE-BA936A124C9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7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éseaux informatiq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éseau domestique WIFI avec connexion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putr3"/>
          <p:cNvSpPr/>
          <p:nvPr/>
        </p:nvSpPr>
        <p:spPr>
          <a:xfrm>
            <a:off x="2987640" y="220500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putr3"/>
          <p:cNvSpPr/>
          <p:nvPr/>
        </p:nvSpPr>
        <p:spPr>
          <a:xfrm>
            <a:off x="3059280" y="429264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putr3"/>
          <p:cNvSpPr/>
          <p:nvPr/>
        </p:nvSpPr>
        <p:spPr>
          <a:xfrm>
            <a:off x="1692360" y="3357720"/>
            <a:ext cx="1008000" cy="647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>
            <a:off x="4140000" y="467172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1" name=""/>
          <p:cNvCxnSpPr/>
          <p:nvPr/>
        </p:nvCxnSpPr>
        <p:spPr>
          <a:xfrm>
            <a:off x="4787640" y="530028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78" idx="4"/>
            <a:endCxn id="83" idx="1"/>
          </p:cNvCxnSpPr>
          <p:nvPr/>
        </p:nvCxnSpPr>
        <p:spPr>
          <a:xfrm flipV="1">
            <a:off x="3904920" y="4093920"/>
            <a:ext cx="2539080" cy="5227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84" name=""/>
          <p:cNvCxnSpPr>
            <a:stCxn id="77" idx="4"/>
            <a:endCxn id="83" idx="1"/>
          </p:cNvCxnSpPr>
          <p:nvPr/>
        </p:nvCxnSpPr>
        <p:spPr>
          <a:xfrm>
            <a:off x="3492360" y="2852280"/>
            <a:ext cx="2952000" cy="1242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85" name=""/>
          <p:cNvCxnSpPr>
            <a:stCxn id="79" idx="4"/>
            <a:endCxn id="83" idx="1"/>
          </p:cNvCxnSpPr>
          <p:nvPr/>
        </p:nvCxnSpPr>
        <p:spPr>
          <a:xfrm>
            <a:off x="2538360" y="3681000"/>
            <a:ext cx="3906000" cy="41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1689120" cy="11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43640" y="4653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m routeur adsl wi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5084640"/>
            <a:ext cx="1008000" cy="627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7640" y="53737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e wifi à brancher sur port 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28000" y="4508640"/>
            <a:ext cx="79200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500280"/>
            <a:ext cx="14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389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âble rés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72360" y="57340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xion Internet par câble télé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2205000"/>
            <a:ext cx="792360" cy="49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1DE3-5EE2-4080-A6EC-0A666A94BAD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07:01:12Z</dcterms:created>
  <dc:creator>bousquet</dc:creator>
  <dc:description/>
  <dc:language>en-US</dc:language>
  <cp:lastModifiedBy>bousquet</cp:lastModifiedBy>
  <dcterms:modified xsi:type="dcterms:W3CDTF">2006-03-01T07:58:55Z</dcterms:modified>
  <cp:revision>108</cp:revision>
  <dc:subject/>
  <dc:title>La programmation événementielle en Visual Basic </dc:title>
</cp:coreProperties>
</file>